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8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pyright © 2010 The HDF Gro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9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04A1-9133-45A1-8659-D3FCE8895008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2C83-23F0-46E4-8A27-008018996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0DA2-8D87-4D8E-8A3F-EDB796F9D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5ECD-BDCD-44BF-A12F-88E857C44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F978-5F53-4B5F-929F-8A619E5F9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7D25-5416-4A14-AA3B-1EB40E9C1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FF35-6A53-4D82-80E6-C290544F6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EE4A-2315-49BC-964D-6A723B766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DCA6-3F0B-4D90-BC14-A83448C0D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6529-5E7C-4DC4-903E-8B87004E9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E741-CA6B-4973-85B9-E34E32A48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8630-C724-42C9-B2C0-CC011B382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386D-2928-4854-9EE3-25E1F368B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6EE8-7A1B-4791-B88E-5BC9817C1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B782-21B0-4AB1-90EB-D33E23423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3D6E-0864-49B0-901A-073C86331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4FCB-2E74-4408-972B-A42B88FD9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8912-17EA-4EAF-87CC-613107EEE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C053-294D-4391-B3F9-92848692D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4870-A04A-45CD-9B37-F3B4823E1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96643-C96D-47E8-82CD-62327CDABA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E0EB5-A32E-4ED2-BAD8-BA04715A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A4D6F-CCFF-4C9A-BDDD-7EB54120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DCB8F-0D9E-4666-883E-0C0A9856AE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232F-52A0-4A1E-924A-712F6AEE74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4ABA-15AC-486F-83E1-2F69C812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77E4-BB4D-4603-B6A0-BFFD9E4C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05BC-B885-4095-9B8F-862D1029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A03D-C586-45E6-B799-1F5495A1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80D5-EF06-4168-A56B-EF13762CE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1662-47B6-4D06-BBDD-BF9CB4B7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4D987-DF73-4BA1-8AA0-62F174B3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B023-951D-4287-84C3-07E14267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6530-BE9F-4D05-82D6-550D2D6B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4B41-DD18-48A8-B6ED-12F66613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0EF1-B93A-4970-9C50-6EF4751B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D90F-88DE-478E-B80F-18D881A25A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BE30-0D9F-4268-9AD7-825F9E9F9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80EB-E9F0-4539-A8FE-1247E987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283C-1A73-4B2D-AD39-4ED2FDC8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5B59-6D2D-4F2E-9085-4333D492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13E5-8F4A-40F0-BB1A-38B562FC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53C7C-E9DB-465D-ADC7-3369D946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8BF1-E740-4EAD-B0A1-803A1208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7150-A6D8-40FB-A025-2FE438BE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1AB0-2C4F-4E17-B133-75353345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9386-C3E8-425A-84A8-A7497574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8F0E-AF71-4889-A639-A0F1954E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E3D7-5923-456D-AF33-C9F4931A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F45E-A795-4A57-95F8-DBBBF77D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9CEE0-C829-47C5-A047-CEF930FA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D7472-DDD3-4993-8F08-86D22CFE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AFFFF-E07E-45A8-81A2-3944DFEF0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4EFE0-5F74-44B6-B7AD-9A1CB55C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AA6D1-3B19-4A5A-908D-DAABB362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76E6C-FF73-46C5-88BF-F0B5B583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560" y="662904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1C2F-A7D4-4FE2-946D-E7A27A40040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www.hdfgroup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www.hdfgroup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999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www.hdfgroup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056" descr=""/>
          <p:cNvPicPr/>
          <p:nvPr/>
        </p:nvPicPr>
        <p:blipFill>
          <a:blip r:embed="rId6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13"/>
          <p:cNvSpPr/>
          <p:nvPr/>
        </p:nvSpPr>
        <p:spPr>
          <a:xfrm>
            <a:off x="1371600" y="231120"/>
            <a:ext cx="21337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689C-31A7-4031-8912-4058585973F6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dt" idx="4"/>
          </p:nvPr>
        </p:nvSpPr>
        <p:spPr>
          <a:xfrm>
            <a:off x="304560" y="662904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www.hdfgroup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5"/>
          </p:nvPr>
        </p:nvSpPr>
        <p:spPr>
          <a:xfrm>
            <a:off x="304560" y="662904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pril 29-30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BFA4-6A54-4C93-B9D2-50633862FEC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7"/>
          </p:nvPr>
        </p:nvSpPr>
        <p:spPr>
          <a:xfrm>
            <a:off x="2438280" y="6629040"/>
            <a:ext cx="4267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DF5 Technical Consulting Meeting for EMR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ytables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ntroduction to HDF5</a:t>
            </a:r>
            <a:br>
              <a:rPr sz="4800"/>
            </a:b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Session 7</a:t>
            </a:r>
            <a:br>
              <a:rPr sz="3600"/>
            </a:br>
            <a:br>
              <a:rPr sz="36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atatypes</a:t>
            </a: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0934-4BC9-4857-9060-4D293163A089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Date Placeholder 4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ing and Writing Compound Datase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0BD1-BF92-4BCB-B850-AA466325850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898560" y="1895400"/>
            <a:ext cx="7483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457200" y="1371600"/>
            <a:ext cx="8458200" cy="28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Create datatype in memory. *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_tid = </a:t>
            </a:r>
            <a:r>
              <a:rPr b="1" lang="en-US" sz="2000" spc="-1" strike="noStrike">
                <a:solidFill>
                  <a:srgbClr val="169940"/>
                </a:solidFill>
                <a:latin typeface="Courier New"/>
              </a:rPr>
              <a:t>H5T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H5T_COMPOUND, sizeof(s1_t)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9940"/>
                </a:solidFill>
                <a:latin typeface="Courier New"/>
              </a:rPr>
              <a:t>H5Tinse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s1_tid, "a_name",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HOFF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s1_t, a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5T_NATIVE_INT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5Tinsert(s1_tid, "c_name",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HOFF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s1_t, c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5T_NATIVE_DOUBLE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5Tinsert(s1_tid, "b_name",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HOFFS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s1_t, b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5T_NATIVE_FLOAT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937080" y="4815000"/>
            <a:ext cx="7239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HOFFSET macro instead of calculating offset by h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of H5Tinsert calls is not important if HOFFSET is u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5692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ing and Writing Compound Data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E862-9FE0-49A3-9514-29B6BF16760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898560" y="1895400"/>
            <a:ext cx="7483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457200" y="1371600"/>
            <a:ext cx="845820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Create dataset and write data *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set = H5Dcreate(file, DATASETNAME,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s1_t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spac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5P_DEFAULT, H5P_DEFAUL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us  = H5Dwrite(dataset,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s1_t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H5S_ALL, H5S_AL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5P_DEFAULT, s1)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940680" y="3429000"/>
            <a:ext cx="673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example memory and file datatypes are the s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is not pack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H5Tpack to save space in the f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656640" y="5089680"/>
            <a:ext cx="81054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us = </a:t>
            </a:r>
            <a:r>
              <a:rPr b="1" lang="en-US" sz="2000" spc="-1" strike="noStrike">
                <a:solidFill>
                  <a:srgbClr val="169940"/>
                </a:solidFill>
                <a:latin typeface="Courier New"/>
              </a:rPr>
              <a:t>H5Tpac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s1_ti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us = H5Dcreate(file, DATASETNAME, s1_tid, spac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5P_DEFAULT, H5P_DEFAUL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ading Compound Data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A40A-6B83-49A1-8FBF-E245B0CF6F6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898560" y="1895400"/>
            <a:ext cx="7483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457200" y="1371600"/>
            <a:ext cx="8458200" cy="25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Create datatype in memory and read data. *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set     = H5Dopen(file, DATASETNAME, H5P_DEFAUL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_tid      = H5Dget_type(datase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m_tid     =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H5Tget_native_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s2_ti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69940"/>
                </a:solidFill>
                <a:latin typeface="Courier New"/>
              </a:rPr>
              <a:t>buf = malloc(H5Tget_size(mem_tid)*number_of_elements);</a:t>
            </a:r>
            <a:r>
              <a:rPr b="1" lang="en-US" sz="2000" spc="-1" strike="noStrike">
                <a:solidFill>
                  <a:srgbClr val="16994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us      = H5Dread(dataset, mem_tid, H5S_AL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5S_ALL, H5P_DEFAULT, bu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822240" y="4029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4098960"/>
            <a:ext cx="746784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ould construct memory type as we did in writing exa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general applications we need to discover the type in the   file, find out corresponding memory type, allocate space and do  re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ading Compound Dataset by Fie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C28D-9DE3-4126-83CD-A0F9A9DF37A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898560" y="1895400"/>
            <a:ext cx="7483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822240" y="4029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609480" y="1295280"/>
            <a:ext cx="8077320" cy="43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9940"/>
                </a:solidFill>
                <a:latin typeface="Courier New"/>
              </a:rPr>
              <a:t>typedef struct s2_t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994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169940"/>
                </a:solidFill>
                <a:latin typeface="Courier New"/>
              </a:rPr>
              <a:t>double c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994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169940"/>
                </a:solidFill>
                <a:latin typeface="Courier New"/>
              </a:rPr>
              <a:t>int    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9940"/>
                </a:solidFill>
                <a:latin typeface="Courier New"/>
              </a:rPr>
              <a:t>} s2_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9940"/>
                </a:solidFill>
                <a:latin typeface="Courier New"/>
              </a:rPr>
              <a:t>s2_t s2[LENGTH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_tid = H5Tcreate (H5T_COMPOUND, sizeof(s2_t)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5Tinsert(s2_tid, "c_name", HOFFSET(s2_t, c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5T_NATIVE_DOUBLE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5Tinsert(s2_tid, “a_name", HOFFSET(s2_t, a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5T_NATIVE_IN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us = H5Dread(dataset, s2_tid, H5S_AL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5S_ALL, H5P_DEFAULT, s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able Exampl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80880" y="990720"/>
          <a:ext cx="4152960" cy="5467320"/>
        </p:xfrm>
        <a:graphic>
          <a:graphicData uri="http://schemas.openxmlformats.org/drawingml/2006/table">
            <a:tbl>
              <a:tblPr/>
              <a:tblGrid>
                <a:gridCol w="1384560"/>
                <a:gridCol w="1406520"/>
                <a:gridCol w="1361880"/>
              </a:tblGrid>
              <a:tr h="901800">
                <a:tc>
                  <a:txBody>
                    <a:bodyPr lIns="81720" rIns="81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_name 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intege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720" marR="81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_nam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loa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720" marR="81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_name 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oubl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720" marR="81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81720" rIns="81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720" marR="81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720" marR="81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720" marR="81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81720" rIns="81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720" marR="81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720" marR="81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5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720" marR="81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81720" rIns="81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720" marR="81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720" marR="81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33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720" marR="81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81720" rIns="81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720" marR="81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720" marR="81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720" marR="81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81720" rIns="81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720" marR="81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720" marR="81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720" marR="81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81720" rIns="81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720" marR="81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720" marR="81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6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720" marR="81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81720" rIns="81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720" marR="81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720" marR="81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4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720" marR="81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81720" rIns="81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720" marR="81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9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720" marR="81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720" marR="81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81720" rIns="81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720" marR="81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720" marR="81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1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720" marR="81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81720" rIns="81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720" marR="81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8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720" marR="81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720" rIns="81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720" marR="81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5CDD-DC15-4B05-99FD-69D77A6709A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53"/>
          <p:cNvSpPr/>
          <p:nvPr/>
        </p:nvSpPr>
        <p:spPr>
          <a:xfrm>
            <a:off x="4572000" y="876240"/>
            <a:ext cx="4572000" cy="56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ultiple ways to store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for each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with compound data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ll fields have the same typ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728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-dim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728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-dim array of array data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d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Choose to achieve your goa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verhea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 I always read all field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 I read some fields more oft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 I want to use compress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 I want to access some records?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oring Variable Length Data with HDF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A88E-1E90-4542-92FB-3E47F4FD1B40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6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DF5 Fixed and Variable Length Array Stor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B98E-EF40-4B0B-A078-8493C1F1BF8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2195640" y="1828800"/>
            <a:ext cx="4433760" cy="220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143000" y="2400480"/>
            <a:ext cx="7509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2195640" y="2270160"/>
            <a:ext cx="4433760" cy="220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2195640" y="2711520"/>
            <a:ext cx="4433760" cy="220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2195640" y="3152880"/>
            <a:ext cx="443376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2260440" y="4114800"/>
            <a:ext cx="4434120" cy="22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2260440" y="4565520"/>
            <a:ext cx="1052640" cy="22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2260440" y="5016600"/>
            <a:ext cx="750960" cy="226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2260440" y="5467320"/>
            <a:ext cx="4057920" cy="22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2260440" y="5918040"/>
            <a:ext cx="2779920" cy="22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1219320" y="4684680"/>
            <a:ext cx="7506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AutoShape 14"/>
          <p:cNvCxnSpPr/>
          <p:nvPr/>
        </p:nvCxnSpPr>
        <p:spPr>
          <a:xfrm>
            <a:off x="1980720" y="1714680"/>
            <a:ext cx="1080" cy="1715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" name="AutoShape 15"/>
          <p:cNvCxnSpPr/>
          <p:nvPr/>
        </p:nvCxnSpPr>
        <p:spPr>
          <a:xfrm>
            <a:off x="1980720" y="4304880"/>
            <a:ext cx="1080" cy="171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p:transition spd="slow" advTm="1000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oring Strings in HDF5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rray of characters (Array datatype or extra dimension in datas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Quick access to each charac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tra work to access and interpret each st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xed leng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ring_id = H5Tcopy(H5T_C_S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5Tset_size(string_id, size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asted space in shorter string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 be compres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ariable leng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tring_id = H5Tcopy(H5T_C_S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5Tset_size(string_id, H5T_VARIABLE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verhead as for all VL dataty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ression will not be applied to actual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F45A-1BD3-4D45-9697-987ABC2E866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6016680" y="510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n-US" sz="2900" spc="-1" strike="noStrike">
                <a:solidFill>
                  <a:srgbClr val="ffff00"/>
                </a:solidFill>
                <a:latin typeface="Calibri"/>
                <a:ea typeface="ＭＳ Ｐゴシック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oring Variable Length Data in HDF5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ach element is represented by C structu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69940"/>
                </a:solidFill>
                <a:latin typeface="Courier New"/>
                <a:ea typeface="ＭＳ Ｐゴシック"/>
              </a:rPr>
              <a:t>typedef struct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69940"/>
                </a:solidFill>
                <a:latin typeface="Courier New"/>
                <a:ea typeface="ＭＳ Ｐゴシック"/>
              </a:rPr>
              <a:t>     </a:t>
            </a:r>
            <a:r>
              <a:rPr b="1" lang="en-US" sz="2200" spc="-1" strike="noStrike">
                <a:solidFill>
                  <a:srgbClr val="169940"/>
                </a:solidFill>
                <a:latin typeface="Courier New"/>
                <a:ea typeface="ＭＳ Ｐゴシック"/>
              </a:rPr>
              <a:t>size_t length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69940"/>
                </a:solidFill>
                <a:latin typeface="Courier New"/>
                <a:ea typeface="ＭＳ Ｐゴシック"/>
              </a:rPr>
              <a:t>     </a:t>
            </a:r>
            <a:r>
              <a:rPr b="1" lang="en-US" sz="2200" spc="-1" strike="noStrike">
                <a:solidFill>
                  <a:srgbClr val="169940"/>
                </a:solidFill>
                <a:latin typeface="Courier New"/>
                <a:ea typeface="ＭＳ Ｐゴシック"/>
              </a:rPr>
              <a:t>void   *p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69940"/>
                </a:solidFill>
                <a:latin typeface="Courier New"/>
                <a:ea typeface="ＭＳ Ｐゴシック"/>
              </a:rPr>
              <a:t>} hvl_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ase type can be </a:t>
            </a:r>
            <a:r>
              <a:rPr b="1" lang="en-US" sz="2800" spc="-1" strike="noStrike">
                <a:solidFill>
                  <a:srgbClr val="169940"/>
                </a:solidFill>
                <a:latin typeface="Calibri"/>
                <a:ea typeface="ＭＳ Ｐゴシック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HDF5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69940"/>
                </a:solidFill>
                <a:latin typeface="Courier New"/>
                <a:ea typeface="ＭＳ Ｐゴシック"/>
              </a:rPr>
              <a:t>H5Tvlen_create(base_typ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8B09-7B47-4F42-9E8A-31F54B2A576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741240" y="80640"/>
            <a:ext cx="794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A869-7EEA-4669-843E-83008D20308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3719520" y="4078440"/>
            <a:ext cx="4433760" cy="226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3719520" y="4529160"/>
            <a:ext cx="1052640" cy="22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3719520" y="4979880"/>
            <a:ext cx="750960" cy="22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3719520" y="5430960"/>
            <a:ext cx="4057560" cy="226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719520" y="5881680"/>
            <a:ext cx="2779560" cy="22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1154160" y="4648320"/>
            <a:ext cx="7509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9"/>
          <p:cNvSpPr/>
          <p:nvPr/>
        </p:nvSpPr>
        <p:spPr>
          <a:xfrm>
            <a:off x="898560" y="15145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380880" y="838080"/>
            <a:ext cx="8286840" cy="329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hvl_t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ata[LENGTH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(i=0; i&lt;LENGTH; i++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ata[i].p = malloc((i+1)*sizeof(unsigned int));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data[i].len = i+1;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vl = H5Tvlen_create (H5T_NATIVE_UINT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603360" y="3962520"/>
            <a:ext cx="1168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[0].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AutoShape 12"/>
          <p:cNvCxnSpPr>
            <a:stCxn id="269" idx="0"/>
            <a:endCxn id="261" idx="1"/>
          </p:cNvCxnSpPr>
          <p:nvPr/>
        </p:nvCxnSpPr>
        <p:spPr>
          <a:xfrm flipH="1" rot="16200000">
            <a:off x="2338200" y="2810160"/>
            <a:ext cx="230760" cy="2532960"/>
          </a:xfrm>
          <a:prstGeom prst="bentConnector4">
            <a:avLst>
              <a:gd name="adj1" fmla="val -99218"/>
              <a:gd name="adj2" fmla="val 6156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Text Box 13"/>
          <p:cNvSpPr/>
          <p:nvPr/>
        </p:nvSpPr>
        <p:spPr>
          <a:xfrm>
            <a:off x="612720" y="5765760"/>
            <a:ext cx="1351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[4].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14"/>
          <p:cNvSpPr/>
          <p:nvPr/>
        </p:nvSpPr>
        <p:spPr>
          <a:xfrm rot="16195800">
            <a:off x="5028840" y="4800600"/>
            <a:ext cx="152640" cy="2743200"/>
          </a:xfrm>
          <a:custGeom>
            <a:avLst/>
            <a:gdLst>
              <a:gd name="textAreaLeft" fmla="*/ 97560 w 152640"/>
              <a:gd name="textAreaRight" fmla="*/ 153000 w 15264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AutoShape 15"/>
          <p:cNvCxnSpPr>
            <a:stCxn id="271" idx="2"/>
            <a:endCxn id="272" idx="1"/>
          </p:cNvCxnSpPr>
          <p:nvPr/>
        </p:nvCxnSpPr>
        <p:spPr>
          <a:xfrm flipH="1" rot="16200000">
            <a:off x="3150360" y="4309920"/>
            <a:ext cx="92880" cy="3817080"/>
          </a:xfrm>
          <a:prstGeom prst="bentConnector3">
            <a:avLst>
              <a:gd name="adj1" fmla="val 330739"/>
            </a:avLst>
          </a:prstGeom>
          <a:ln w="38160">
            <a:solidFill>
              <a:srgbClr val="000000"/>
            </a:solidFill>
            <a:miter/>
          </a:ln>
        </p:spPr>
      </p:cxnSp>
    </p:spTree>
  </p:cSld>
  <p:transition spd="slow" advTm="1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HDF5 Datatype i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description of dataset element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ed into “classes”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omic – integers, floating-point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umer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ound – like C stru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a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bject – similar to soft lin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ion – similar to soft link to dataset + sele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iable-leng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ings – fixed and variable-leng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quences – similar to Standard C++ vector cla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4F33-FBD0-4E9B-883E-7AA55A4303B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ading HDF5 Variable Length Arr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library allocates memory to read data 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nly needs to allocate array of hvl_t elements (pointers and length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must reclaim memory for data read 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4A1C-9DCC-4600-A9D2-EC6661A6A93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898560" y="1895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380880" y="3218040"/>
            <a:ext cx="8458200" cy="278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69940"/>
                </a:solidFill>
                <a:latin typeface="Courier New"/>
              </a:rPr>
              <a:t>hvl_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data[LENGTH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* Create the memory vlen type */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vl = H5Tvlen_create(H5T_NATIVE_INT);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 = H5Dread(dataset, tvl, H5S_ALL, H5S_ALL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 H5P_DEFAULT, rdata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* Reclaim the read VL data */</a:t>
            </a:r>
            <a:br>
              <a:rPr sz="2200"/>
            </a:br>
            <a:r>
              <a:rPr b="1" lang="en-US" sz="2200" spc="-1" strike="noStrike">
                <a:solidFill>
                  <a:srgbClr val="169940"/>
                </a:solidFill>
                <a:latin typeface="Courier New"/>
              </a:rPr>
              <a:t>H5Dvlen_reclaim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tvl, H5S_ALL, H5P_DEFAULT,rdata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DF5 Reference Datatyp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AA9B-7262-49E3-A652-9763735B1F0B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6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erence Dataty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bject Re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inter to an object in a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edefined datatype </a:t>
            </a:r>
            <a:r>
              <a:rPr b="0" lang="en-US" sz="28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H5T_STD_REG_OB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taset Region Re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inter to a dataset + dataspace sel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edefined datatype </a:t>
            </a:r>
            <a:r>
              <a:rPr b="0" lang="en-US" sz="28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H5T_STD_REF_DSETRE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0BA9-16F5-4EB8-BDBC-46AB256C6B7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12"/>
          <p:cNvSpPr/>
          <p:nvPr/>
        </p:nvSpPr>
        <p:spPr>
          <a:xfrm>
            <a:off x="2131560" y="1600200"/>
            <a:ext cx="517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select and access the s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of a data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7" descr="Perfect-storm.jpeg"/>
          <p:cNvPicPr/>
          <p:nvPr/>
        </p:nvPicPr>
        <p:blipFill>
          <a:blip r:embed="rId1"/>
          <a:stretch/>
        </p:blipFill>
        <p:spPr>
          <a:xfrm>
            <a:off x="1951200" y="957240"/>
            <a:ext cx="5546520" cy="554688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ving Selected Region in a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Date Placeholder 5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9FEB-20D1-41B2-89A3-9D8BD0A86D4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reeform 10"/>
          <p:cNvSpPr/>
          <p:nvPr/>
        </p:nvSpPr>
        <p:spPr>
          <a:xfrm>
            <a:off x="3505320" y="4262400"/>
            <a:ext cx="1839960" cy="1528920"/>
          </a:xfrm>
          <a:prstGeom prst="pie">
            <a:avLst/>
          </a:prstGeom>
          <a:solidFill>
            <a:srgbClr val="ffffff">
              <a:alpha val="13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erence to Dataset Reg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8F72-ED2B-4964-907E-BA351D624F5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3733920" y="1295280"/>
            <a:ext cx="205740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_REG.h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7"/>
          <p:cNvSpPr/>
          <p:nvPr/>
        </p:nvSpPr>
        <p:spPr>
          <a:xfrm>
            <a:off x="4724280" y="1676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4423320" y="1895400"/>
            <a:ext cx="6256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9"/>
          <p:cNvSpPr/>
          <p:nvPr/>
        </p:nvSpPr>
        <p:spPr>
          <a:xfrm>
            <a:off x="6600960" y="4305240"/>
            <a:ext cx="75960" cy="76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Oval 10"/>
          <p:cNvSpPr/>
          <p:nvPr/>
        </p:nvSpPr>
        <p:spPr>
          <a:xfrm>
            <a:off x="6600960" y="492444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11"/>
          <p:cNvSpPr/>
          <p:nvPr/>
        </p:nvSpPr>
        <p:spPr>
          <a:xfrm>
            <a:off x="5334120" y="2895480"/>
            <a:ext cx="106668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4961520" y="3276720"/>
            <a:ext cx="1918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ion Refer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3"/>
          <p:cNvSpPr/>
          <p:nvPr/>
        </p:nvSpPr>
        <p:spPr>
          <a:xfrm flipH="1">
            <a:off x="2895480" y="2895480"/>
            <a:ext cx="144792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Oval 14"/>
          <p:cNvSpPr/>
          <p:nvPr/>
        </p:nvSpPr>
        <p:spPr>
          <a:xfrm>
            <a:off x="3962520" y="2514600"/>
            <a:ext cx="160020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5"/>
          <p:cNvSpPr/>
          <p:nvPr/>
        </p:nvSpPr>
        <p:spPr>
          <a:xfrm>
            <a:off x="3281040" y="3276720"/>
            <a:ext cx="8038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6"/>
          <p:cNvSpPr/>
          <p:nvPr/>
        </p:nvSpPr>
        <p:spPr>
          <a:xfrm>
            <a:off x="1295280" y="4114800"/>
            <a:ext cx="30481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1  2  3  </a:t>
            </a:r>
            <a:r>
              <a:rPr b="1" lang="en-US" sz="2400" spc="-1" strike="noStrike">
                <a:solidFill>
                  <a:srgbClr val="0ba116"/>
                </a:solidFill>
                <a:latin typeface="Times New Roman"/>
              </a:rPr>
              <a:t>3  4  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5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2  2  3  </a:t>
            </a:r>
            <a:r>
              <a:rPr b="1" lang="en-US" sz="2400" spc="-1" strike="noStrike">
                <a:solidFill>
                  <a:srgbClr val="0ba116"/>
                </a:solidFill>
                <a:latin typeface="Times New Roman"/>
              </a:rPr>
              <a:t>4  4  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17"/>
          <p:cNvSpPr/>
          <p:nvPr/>
        </p:nvSpPr>
        <p:spPr>
          <a:xfrm>
            <a:off x="2438280" y="3962520"/>
            <a:ext cx="1020960" cy="1076040"/>
          </a:xfrm>
          <a:prstGeom prst="pie">
            <a:avLst/>
          </a:prstGeom>
          <a:noFill/>
          <a:ln w="28440">
            <a:solidFill>
              <a:srgbClr val="0ba1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AutoShape 18"/>
          <p:cNvCxnSpPr>
            <a:stCxn id="300" idx="4"/>
          </p:cNvCxnSpPr>
          <p:nvPr/>
        </p:nvCxnSpPr>
        <p:spPr>
          <a:xfrm flipV="1" rot="16200000">
            <a:off x="4861800" y="2604240"/>
            <a:ext cx="343800" cy="3210480"/>
          </a:xfrm>
          <a:prstGeom prst="curvedConnector5">
            <a:avLst>
              <a:gd name="adj1" fmla="val 155555"/>
              <a:gd name="adj2" fmla="val 49029"/>
              <a:gd name="adj3" fmla="val 155555"/>
            </a:avLst>
          </a:prstGeom>
          <a:ln w="28440">
            <a:solidFill>
              <a:srgbClr val="0ba116"/>
            </a:solidFill>
            <a:miter/>
            <a:tailEnd len="med" type="triangle" w="med"/>
          </a:ln>
        </p:spPr>
      </p:cxnSp>
      <p:sp>
        <p:nvSpPr>
          <p:cNvPr id="310" name="Freeform 19"/>
          <p:cNvSpPr/>
          <p:nvPr/>
        </p:nvSpPr>
        <p:spPr>
          <a:xfrm>
            <a:off x="3733920" y="4114800"/>
            <a:ext cx="347400" cy="500040"/>
          </a:xfrm>
          <a:prstGeom prst="pie">
            <a:avLst/>
          </a:pr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20"/>
          <p:cNvSpPr/>
          <p:nvPr/>
        </p:nvSpPr>
        <p:spPr>
          <a:xfrm>
            <a:off x="1295280" y="4114800"/>
            <a:ext cx="347760" cy="500040"/>
          </a:xfrm>
          <a:prstGeom prst="pie">
            <a:avLst/>
          </a:pr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21"/>
          <p:cNvSpPr/>
          <p:nvPr/>
        </p:nvSpPr>
        <p:spPr>
          <a:xfrm>
            <a:off x="3429000" y="4495680"/>
            <a:ext cx="347760" cy="500040"/>
          </a:xfrm>
          <a:prstGeom prst="pie">
            <a:avLst/>
          </a:pr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AutoShape 22"/>
          <p:cNvCxnSpPr>
            <a:stCxn id="301" idx="2"/>
          </p:cNvCxnSpPr>
          <p:nvPr/>
        </p:nvCxnSpPr>
        <p:spPr>
          <a:xfrm rot="10800000">
            <a:off x="4037760" y="4419000"/>
            <a:ext cx="2563200" cy="543600"/>
          </a:xfrm>
          <a:prstGeom prst="curvedConnector5">
            <a:avLst>
              <a:gd name="adj1" fmla="val 49992"/>
              <a:gd name="adj2" fmla="val 49966"/>
              <a:gd name="adj3" fmla="val 49992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314" name="AutoShape 23"/>
          <p:cNvCxnSpPr>
            <a:stCxn id="301" idx="3"/>
          </p:cNvCxnSpPr>
          <p:nvPr/>
        </p:nvCxnSpPr>
        <p:spPr>
          <a:xfrm flipV="1" rot="16200000">
            <a:off x="5115960" y="3493440"/>
            <a:ext cx="37440" cy="2954880"/>
          </a:xfrm>
          <a:prstGeom prst="curvedConnector5">
            <a:avLst>
              <a:gd name="adj1" fmla="val -913592"/>
              <a:gd name="adj2" fmla="val 49433"/>
              <a:gd name="adj3" fmla="val -913592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315" name="AutoShape 24"/>
          <p:cNvCxnSpPr>
            <a:stCxn id="301" idx="4"/>
          </p:cNvCxnSpPr>
          <p:nvPr/>
        </p:nvCxnSpPr>
        <p:spPr>
          <a:xfrm flipV="1" rot="16200000">
            <a:off x="3904560" y="2266200"/>
            <a:ext cx="429480" cy="5039280"/>
          </a:xfrm>
          <a:prstGeom prst="curvedConnector5">
            <a:avLst>
              <a:gd name="adj1" fmla="val -157718"/>
              <a:gd name="adj2" fmla="val 50703"/>
              <a:gd name="adj3" fmla="val -157718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316" name="Rectangle 28"/>
          <p:cNvSpPr/>
          <p:nvPr/>
        </p:nvSpPr>
        <p:spPr>
          <a:xfrm rot="5400000">
            <a:off x="6019560" y="4343040"/>
            <a:ext cx="1219320" cy="609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traight Connector 30"/>
          <p:cNvSpPr/>
          <p:nvPr/>
        </p:nvSpPr>
        <p:spPr>
          <a:xfrm flipH="1">
            <a:off x="6324480" y="4648320"/>
            <a:ext cx="60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erence to Dataset Reg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67C5-4621-4499-9CCC-0B0C2526B5F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990720" y="8380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setr_id = H5Dcreate(file_id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GION REFERENCES”, </a:t>
            </a:r>
            <a:r>
              <a:rPr b="1" lang="en-US" sz="2400" spc="-1" strike="noStrike">
                <a:solidFill>
                  <a:srgbClr val="169940"/>
                </a:solidFill>
                <a:latin typeface="Courier New"/>
                <a:ea typeface="ＭＳ Ｐゴシック"/>
              </a:rPr>
              <a:t>H5T_STD_REF_DSETRE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, …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5Sselect_hyperslab(space_i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5S_SELECT_SET, start, NULL, …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5Rcreate(</a:t>
            </a:r>
            <a:r>
              <a:rPr b="1" lang="en-US" sz="2400" spc="-1" strike="noStrike">
                <a:solidFill>
                  <a:srgbClr val="169940"/>
                </a:solidFill>
                <a:latin typeface="Courier New"/>
                <a:ea typeface="ＭＳ Ｐゴシック"/>
              </a:rPr>
              <a:t>&amp;ref[0]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, file_id, “MATRIX”, </a:t>
            </a:r>
            <a:r>
              <a:rPr b="1" lang="en-US" sz="2400" spc="-1" strike="noStrike">
                <a:solidFill>
                  <a:srgbClr val="169940"/>
                </a:solidFill>
                <a:latin typeface="Courier New"/>
                <a:ea typeface="ＭＳ Ｐゴシック"/>
              </a:rPr>
              <a:t>H5R_DATASET_REG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, space_id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5Dwrite(dsetr_id,</a:t>
            </a:r>
            <a:r>
              <a:rPr b="1" lang="en-US" sz="2400" spc="-1" strike="noStrike">
                <a:solidFill>
                  <a:srgbClr val="169940"/>
                </a:solidFill>
                <a:latin typeface="Courier New"/>
                <a:ea typeface="ＭＳ Ｐゴシック"/>
              </a:rPr>
              <a:t> H5T_STD_REF_DSETRE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, H5S_ALL, H5S_ALL, H5P_DEFAULT, </a:t>
            </a:r>
            <a:r>
              <a:rPr b="1" lang="en-US" sz="2400" spc="-1" strike="noStrike">
                <a:solidFill>
                  <a:srgbClr val="169940"/>
                </a:solidFill>
                <a:latin typeface="Courier New"/>
                <a:ea typeface="ＭＳ Ｐゴシック"/>
              </a:rPr>
              <a:t>r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tch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8230-8E03-496D-AD60-4A802237E92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2" descr="C:\Users\Administrator\AppData\Local\Microsoft\Windows\Temporary Internet Files\Content.IE5\YFS9K5HA\MC900289001[1].wmf"/>
          <p:cNvPicPr/>
          <p:nvPr/>
        </p:nvPicPr>
        <p:blipFill>
          <a:blip r:embed="rId1"/>
          <a:stretch/>
        </p:blipFill>
        <p:spPr>
          <a:xfrm>
            <a:off x="2840040" y="2305080"/>
            <a:ext cx="345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DF5 Dataty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DF5 has a rich set of pre-defined datatypes and supports the creation of an unlimited variety of complex user-defined datatyp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lf-describ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tatype definitions are stored in the HDF5 fil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the da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tatype definitions include information such a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yte order (endianess), size, and floating point represent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to fully describe how the data is stored and to insure portability across platfor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876C-4653-45C6-88FA-094BC7454A6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type Con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types that are compatible, but not identical are converted automatically when I/O is perfor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tible datatyp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atomic datatypes are compat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cally structured array, variable-length and compound datatypes whose base type or fields are compat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umerated datatype values on a “by name” ba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 datatypes identical for best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1BC4-42F7-40D6-8A8C-A83665458D2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type Conversion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1CA9-46B6-4D66-8403-44EAD2285C4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1037"/>
          <p:cNvSpPr/>
          <p:nvPr/>
        </p:nvSpPr>
        <p:spPr>
          <a:xfrm>
            <a:off x="1373040" y="1981080"/>
            <a:ext cx="914400" cy="609840"/>
          </a:xfrm>
          <a:prstGeom prst="flowChartDocumen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038"/>
          <p:cNvSpPr/>
          <p:nvPr/>
        </p:nvSpPr>
        <p:spPr>
          <a:xfrm>
            <a:off x="392760" y="1019160"/>
            <a:ext cx="3908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 of integers on IA32 plat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ve integer is little-endian, 4 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1039"/>
          <p:cNvSpPr/>
          <p:nvPr/>
        </p:nvSpPr>
        <p:spPr>
          <a:xfrm>
            <a:off x="2286000" y="4724280"/>
            <a:ext cx="4876920" cy="1371600"/>
          </a:xfrm>
          <a:prstGeom prst="can">
            <a:avLst>
              <a:gd name="adj" fmla="val 25000"/>
            </a:avLst>
          </a:prstGeom>
          <a:solidFill>
            <a:srgbClr val="b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1040"/>
          <p:cNvSpPr/>
          <p:nvPr/>
        </p:nvSpPr>
        <p:spPr>
          <a:xfrm>
            <a:off x="2819520" y="5257800"/>
            <a:ext cx="914400" cy="609480"/>
          </a:xfrm>
          <a:prstGeom prst="flowChartDocumen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AutoShape 1041"/>
          <p:cNvCxnSpPr>
            <a:endCxn id="163" idx="0"/>
          </p:cNvCxnSpPr>
          <p:nvPr/>
        </p:nvCxnSpPr>
        <p:spPr>
          <a:xfrm>
            <a:off x="1980720" y="2666520"/>
            <a:ext cx="1296360" cy="2591640"/>
          </a:xfrm>
          <a:prstGeom prst="straightConnector1">
            <a:avLst/>
          </a:prstGeom>
          <a:ln w="4140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65" name="Rectangle 1042"/>
          <p:cNvSpPr/>
          <p:nvPr/>
        </p:nvSpPr>
        <p:spPr>
          <a:xfrm>
            <a:off x="2534400" y="5410440"/>
            <a:ext cx="17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5T_STD_I32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043"/>
          <p:cNvSpPr/>
          <p:nvPr/>
        </p:nvSpPr>
        <p:spPr>
          <a:xfrm>
            <a:off x="817920" y="3537360"/>
            <a:ext cx="12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9940"/>
                </a:solidFill>
                <a:latin typeface="Arial"/>
              </a:rPr>
              <a:t>H5D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045"/>
          <p:cNvSpPr/>
          <p:nvPr/>
        </p:nvSpPr>
        <p:spPr>
          <a:xfrm>
            <a:off x="4769280" y="1025280"/>
            <a:ext cx="4164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 of integers on SPARC64 plat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ve integer is big-endian, 8 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1046"/>
          <p:cNvSpPr/>
          <p:nvPr/>
        </p:nvSpPr>
        <p:spPr>
          <a:xfrm>
            <a:off x="4952880" y="1981080"/>
            <a:ext cx="1828800" cy="762120"/>
          </a:xfrm>
          <a:prstGeom prst="flowChartDocumen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AutoShape 1047"/>
          <p:cNvCxnSpPr>
            <a:stCxn id="163" idx="3"/>
            <a:endCxn id="168" idx="2"/>
          </p:cNvCxnSpPr>
          <p:nvPr/>
        </p:nvCxnSpPr>
        <p:spPr>
          <a:xfrm flipV="1">
            <a:off x="3733920" y="2692080"/>
            <a:ext cx="2134080" cy="2870640"/>
          </a:xfrm>
          <a:prstGeom prst="straightConnector1">
            <a:avLst/>
          </a:prstGeom>
          <a:ln w="4140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70" name="Rectangle 1048"/>
          <p:cNvSpPr/>
          <p:nvPr/>
        </p:nvSpPr>
        <p:spPr>
          <a:xfrm>
            <a:off x="2307240" y="221004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5T_NATIVE_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49"/>
          <p:cNvSpPr/>
          <p:nvPr/>
        </p:nvSpPr>
        <p:spPr>
          <a:xfrm>
            <a:off x="6820560" y="228636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5T_NATIVE_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050"/>
          <p:cNvSpPr/>
          <p:nvPr/>
        </p:nvSpPr>
        <p:spPr>
          <a:xfrm>
            <a:off x="5164200" y="399312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9940"/>
                </a:solidFill>
                <a:latin typeface="Arial"/>
              </a:rPr>
              <a:t>H5D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1051"/>
          <p:cNvSpPr/>
          <p:nvPr/>
        </p:nvSpPr>
        <p:spPr>
          <a:xfrm>
            <a:off x="7086600" y="3809880"/>
            <a:ext cx="914400" cy="609840"/>
          </a:xfrm>
          <a:prstGeom prst="flowChartDocumen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AutoShape 1052"/>
          <p:cNvCxnSpPr>
            <a:stCxn id="165" idx="3"/>
          </p:cNvCxnSpPr>
          <p:nvPr/>
        </p:nvCxnSpPr>
        <p:spPr>
          <a:xfrm flipV="1">
            <a:off x="4281120" y="4300200"/>
            <a:ext cx="2958120" cy="1280160"/>
          </a:xfrm>
          <a:prstGeom prst="straightConnector1">
            <a:avLst/>
          </a:prstGeom>
          <a:ln w="4140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75" name="Rectangle 1053"/>
          <p:cNvSpPr/>
          <p:nvPr/>
        </p:nvSpPr>
        <p:spPr>
          <a:xfrm>
            <a:off x="6115320" y="3429720"/>
            <a:ext cx="29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-endian 4 bytes 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1054"/>
          <p:cNvCxnSpPr/>
          <p:nvPr/>
        </p:nvCxnSpPr>
        <p:spPr>
          <a:xfrm rot="5400000">
            <a:off x="6430320" y="4312800"/>
            <a:ext cx="1220040" cy="1127880"/>
          </a:xfrm>
          <a:prstGeom prst="bentConnector2">
            <a:avLst/>
          </a:prstGeom>
          <a:ln w="38160">
            <a:solidFill>
              <a:srgbClr val="169940"/>
            </a:solidFill>
            <a:miter/>
            <a:tailEnd len="med" type="triangle" w="med"/>
          </a:ln>
        </p:spPr>
      </p:cxnSp>
      <p:sp>
        <p:nvSpPr>
          <p:cNvPr id="177" name="AutoShape 1055"/>
          <p:cNvSpPr/>
          <p:nvPr/>
        </p:nvSpPr>
        <p:spPr>
          <a:xfrm>
            <a:off x="6019920" y="5257800"/>
            <a:ext cx="457200" cy="609480"/>
          </a:xfrm>
          <a:prstGeom prst="flowChartDocumen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056"/>
          <p:cNvSpPr/>
          <p:nvPr/>
        </p:nvSpPr>
        <p:spPr>
          <a:xfrm>
            <a:off x="5466960" y="5486760"/>
            <a:ext cx="160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AX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-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057"/>
          <p:cNvSpPr/>
          <p:nvPr/>
        </p:nvSpPr>
        <p:spPr>
          <a:xfrm>
            <a:off x="7567920" y="4754880"/>
            <a:ext cx="12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9940"/>
                </a:solidFill>
                <a:latin typeface="Arial"/>
              </a:rPr>
              <a:t>H5D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oring Records with HDF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3085-8C00-4759-B800-0EBBB972D9B7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DF5 Compound Datatyp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ound 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arable to C struc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mbers can be any data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9940"/>
                </a:solidFill>
                <a:latin typeface="Calibri"/>
                <a:ea typeface="ＭＳ Ｐゴシック"/>
              </a:rPr>
              <a:t>Can write/read by a single field or a set of fiel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69940"/>
                </a:solidFill>
                <a:latin typeface="Calibri"/>
                <a:ea typeface="ＭＳ Ｐゴシック"/>
              </a:rPr>
              <a:t>Not all data filters can be applied</a:t>
            </a:r>
            <a:r>
              <a:rPr b="0" lang="en-US" sz="2800" spc="-1" strike="noStrike">
                <a:solidFill>
                  <a:srgbClr val="169940"/>
                </a:solidFill>
                <a:latin typeface="Calibri"/>
                <a:ea typeface="ＭＳ Ｐゴシック"/>
              </a:rPr>
              <a:t> (shuffling, SZI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107E-DFA0-4251-8EB6-D81C06B4B50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DF5 Compound Datatyp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ich APIs to u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5TB AP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, read, get info and merge t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, delete, and append reco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sert and delete fie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mited control over table’s properties (i.e. only GZIP compression, level 6, default allocation time for table, extendible,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yTables  </a:t>
            </a:r>
            <a:r>
              <a:rPr b="0" lang="en-US" sz="2400" spc="-1" strike="noStrike" u="sng">
                <a:solidFill>
                  <a:srgbClr val="4f81bd"/>
                </a:solidFill>
                <a:uFillTx/>
                <a:latin typeface="Calibri"/>
                <a:ea typeface="ＭＳ Ｐゴシック"/>
                <a:hlinkClick r:id="rId1"/>
              </a:rPr>
              <a:t>http://www.pytables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ased on H5T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ython interf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dexing capab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DF5 API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5Tcreate(H5T_COMPOUND), H5Tinsert calls to create a compound data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5Dcreate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e H5Tget_member* functions for discovering properties of the HDF5 compound data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BAC7-6235-44FE-A180-19379909A2A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ing and Writing Compound Datas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4D8A-3D24-428C-9BF9-FDD954E68FC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898560" y="1895400"/>
            <a:ext cx="7483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1143000" y="1371600"/>
            <a:ext cx="6934320" cy="442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5_compound.c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9940"/>
                </a:solidFill>
                <a:latin typeface="Courier New"/>
              </a:rPr>
              <a:t>typedef struct s1_t {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9940"/>
                </a:solidFill>
                <a:latin typeface="Courier New"/>
              </a:rPr>
              <a:t>        </a:t>
            </a:r>
            <a:r>
              <a:rPr b="1" lang="en-US" sz="2800" spc="-1" strike="noStrike">
                <a:solidFill>
                  <a:srgbClr val="169940"/>
                </a:solidFill>
                <a:latin typeface="Courier New"/>
              </a:rPr>
              <a:t>int a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9940"/>
                </a:solidFill>
                <a:latin typeface="Courier New"/>
              </a:rPr>
              <a:t>        </a:t>
            </a:r>
            <a:r>
              <a:rPr b="1" lang="en-US" sz="2800" spc="-1" strike="noStrike">
                <a:solidFill>
                  <a:srgbClr val="169940"/>
                </a:solidFill>
                <a:latin typeface="Courier New"/>
              </a:rPr>
              <a:t>float b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9940"/>
                </a:solidFill>
                <a:latin typeface="Courier New"/>
              </a:rPr>
              <a:t>        </a:t>
            </a:r>
            <a:r>
              <a:rPr b="1" lang="en-US" sz="2800" spc="-1" strike="noStrike">
                <a:solidFill>
                  <a:srgbClr val="169940"/>
                </a:solidFill>
                <a:latin typeface="Courier New"/>
              </a:rPr>
              <a:t>double c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994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169940"/>
                </a:solidFill>
                <a:latin typeface="Courier New"/>
              </a:rPr>
              <a:t>} s1_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9940"/>
                </a:solidFill>
                <a:latin typeface="Courier New"/>
              </a:rPr>
              <a:t>s1_t   s1[LENGTH];</a:t>
            </a:r>
            <a:r>
              <a:rPr b="0" lang="en-US" sz="2800" spc="-1" strike="noStrike">
                <a:solidFill>
                  <a:srgbClr val="16994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37:02Z</dcterms:created>
  <dc:creator>Ruth Aydt</dc:creator>
  <dc:description/>
  <dc:language>en-US</dc:language>
  <cp:lastModifiedBy>Anastasia Alexov</cp:lastModifiedBy>
  <cp:lastPrinted>2010-07-07T19:59:32Z</cp:lastPrinted>
  <dcterms:modified xsi:type="dcterms:W3CDTF">2010-09-14T08:02:55Z</dcterms:modified>
  <cp:revision>189</cp:revision>
  <dc:subject/>
  <dc:title>Slide 1</dc:title>
</cp:coreProperties>
</file>